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ill Sans MT"/>
            </a:endParaRPr>
          </a:p>
        </p:txBody>
      </p:sp>
      <p:sp>
        <p:nvSpPr>
          <p:cNvPr id="35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5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7"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8"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B5063-A229-4D52-8188-00A8E01B07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E6039-59C4-47A2-836F-B32581E6231D}" type="slidenum">
              <a:rPr b="0" lang="en-US" sz="1200" spc="-1" strike="noStrike">
                <a:solidFill>
                  <a:srgbClr val="000000"/>
                </a:solidFill>
                <a:latin typeface="Gill Sans MT"/>
              </a:rPr>
              <a:t>&lt;number&gt;</a:t>
            </a:fld>
            <a:endParaRPr b="0" lang="en-US" sz="1200" spc="-1" strike="noStrike">
              <a:solidFill>
                <a:srgbClr val="000000"/>
              </a:solidFill>
              <a:latin typeface="Gill Sans M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BF360-3B71-4A6B-8AE4-3F055B65CCCE}" type="slidenum">
              <a:rPr b="0" lang="en-US" sz="1200" spc="-1" strike="noStrike">
                <a:solidFill>
                  <a:srgbClr val="000000"/>
                </a:solidFill>
                <a:latin typeface="Gill Sans MT"/>
              </a:rPr>
              <a:t>&lt;number&gt;</a:t>
            </a:fld>
            <a:endParaRPr b="0" lang="en-US" sz="1200" spc="-1" strike="noStrike">
              <a:solidFill>
                <a:srgbClr val="000000"/>
              </a:solidFill>
              <a:latin typeface="Gill Sans M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4D130-ABAA-4B7D-9FB9-C9ABBFEECEC1}" type="slidenum">
              <a:rPr b="0" lang="en-US" sz="1200" spc="-1" strike="noStrike">
                <a:solidFill>
                  <a:srgbClr val="000000"/>
                </a:solidFill>
                <a:latin typeface="Gill Sans MT"/>
              </a:rPr>
              <a:t>&lt;number&gt;</a:t>
            </a:fld>
            <a:endParaRPr b="0" lang="en-US" sz="1200" spc="-1" strike="noStrike">
              <a:solidFill>
                <a:srgbClr val="000000"/>
              </a:solidFill>
              <a:latin typeface="Gill Sans M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7D943-7EE8-4F5B-950A-FEF87CA1F2B1}" type="slidenum">
              <a:rPr b="0" lang="en-US" sz="1200" spc="-1" strike="noStrike">
                <a:solidFill>
                  <a:srgbClr val="000000"/>
                </a:solidFill>
                <a:latin typeface="Gill Sans MT"/>
              </a:rPr>
              <a:t>&lt;number&gt;</a:t>
            </a:fld>
            <a:endParaRPr b="0" lang="en-US" sz="1200" spc="-1" strike="noStrike">
              <a:solidFill>
                <a:srgbClr val="000000"/>
              </a:solidFill>
              <a:latin typeface="Gill Sans M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3866D-BEB3-479E-B6AE-1EBD4C315728}" type="slidenum">
              <a:rPr b="0" lang="en-US" sz="1200" spc="-1" strike="noStrike">
                <a:solidFill>
                  <a:srgbClr val="000000"/>
                </a:solidFill>
                <a:latin typeface="Gill Sans MT"/>
              </a:rPr>
              <a:t>&lt;number&gt;</a:t>
            </a:fld>
            <a:endParaRPr b="0" lang="en-US" sz="1200" spc="-1" strike="noStrike">
              <a:solidFill>
                <a:srgbClr val="000000"/>
              </a:solidFill>
              <a:latin typeface="Gill Sans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16E300-0B57-49C7-83ED-4251E0DEC1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788E32-9877-4155-B2E4-D679DC3AC3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11684D-DE54-43D9-9282-39DD7086C7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EE2D56-2F71-4EE5-A548-726736860C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1C3800-E55A-4DF7-A049-13BCAEA978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642A40-E298-4B00-B14A-0C4EC35FBB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B06957-A3E4-4358-AB88-47DE2BB991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FA8312-2B21-41F0-85A2-2D82BE3F0A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22940A-175E-48E8-A3D7-D22F9F804C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E867ED-A206-45EA-B81F-C7F23FE616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C4BD0A-9274-434B-9676-4A4D45D590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A3972B-FA4B-4A50-9774-923C1BDB16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4CBCA4-8F70-4025-8F2E-DC71B731C7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796C8C-6807-42CE-8743-813EE1548F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BF5249-CA25-413E-902E-0F684F6DE3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51C6E6-389C-40AB-A90E-371DBF04CF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BB723E-374B-4BCE-BAFB-3FBCA435E6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5729DF9-1E0E-4A99-A2F0-606967B42BE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56D7E9-8C0A-45CA-A770-E1DB84689F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BFF75F-5A7B-4A43-92F4-320CD74774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DD1339-B33E-440A-B1AD-C962F15B75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C7DC68-5402-44FC-8EC6-D08F55F0E7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E45391-7292-4DB4-891C-204E85ED7D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7F7A58-2A58-4A87-8B5F-DCCC2D886D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F0E909-A019-4DC6-A833-9E63E6E207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05C153-B12E-4CCF-93BF-BCA121B5E3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121245-13C8-49A1-A022-6DC53DAE19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474BBD-8953-4B46-8A68-AC26210985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8228094-B0F3-48D9-9AEF-8A429333F0B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00C99FF-EFD4-4F9A-805E-7E304E117B8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BA73648-2F86-4C4E-8577-65B492D423F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B47992-3B31-41DA-924D-41A57E40F3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1E4B0E-33DE-4453-A2EE-CAA167BB36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05D0C3-C73B-47ED-90E5-C39B68B5A3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9A1483-726C-43D4-B8D3-051208BED8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5243D7-E316-42CA-A281-47A638FAFF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D750A6-4102-48D7-BF6A-3B5E4EF7ED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934737-2B7E-4602-BF91-B84ADB98A5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60F8C8-F14F-4D43-8C03-BD55F43CE9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732492-ABE7-41D8-AB43-59BF08F69F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A0EB23-4D46-46A2-B10E-CF3C34DFA8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34AABAB-63A1-4554-8C53-87846F9C2CB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A81DE32-4483-4D89-BBD4-13140DF83DB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546309B-EF5C-4C8A-B861-FAC6D484E7C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96B26D-CFF7-4209-BD3C-DD9B8003D3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3B15CE-43CB-493E-961D-28EF3188DD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607040E-AE95-4820-8376-E2B2540962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C9B82E7-EFC4-4336-8506-529D987D6C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EFC977-AFBA-4BE4-88BB-6B5987B849E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184B37F-9197-4972-BDC7-D32FFC6CDC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049931-84C0-462B-B843-2EA4E665FA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B30DE4-C52D-4F7E-8C66-5CFB798372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82ADF9-8ED4-494B-99C5-70A0C0F9DE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7552E46-D0AB-478C-B1E1-047FADE979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6231510-41C4-4519-8F91-0DE4CD9C165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9D287A-805E-4D69-B0EE-D56D3F6E4C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5A337A7-B5F1-41DC-B857-4F3D66D459E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58797B8-1565-48D3-8EE5-E3FE46C3BC0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760C7FE-DC9B-46A8-A91D-C98D5F66A2F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30091F9-5A4F-4E2C-8296-CC21DB2BBA0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E3E6D89-D8B9-49D1-9287-0B1E5DC3E1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7E88346-DA9A-4E14-AC86-A1FBF00FA4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1EF4378-8CA9-4F28-8CCC-FA7B5188C0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DBEB36-99F2-4BD2-9B32-D9AED90868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78CEB2-861E-4E1C-83DF-94F7FD1229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9962A3-5F21-4A1D-89AF-55B5EE2EB7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E33BB-589C-4275-AD11-A404FD386A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A1BFFF7-A3A5-4E25-9C95-E6540B05AC3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19386D3-4A09-4259-82D5-8BAC61AAB73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1EBDAFF-E059-48E9-B0EA-BCEE8E7321A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AA0B792-2876-4667-B145-A8B41EED1BC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9E64971-EA6C-4C42-A0EC-D88126606B8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DF99A0C-370B-4918-BF94-FEF0042C628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95FCAC6-6EC4-453B-BBF6-54688E3CFE6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A3A7EEC-5FBE-48AF-AF08-DF518654062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07AA3FA-88E3-42E2-A2DD-09BD1F4D6C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511482-A111-4EB4-A588-B6B9F1AE0A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1BB618-92F6-4DDD-91C3-528A121EF8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AEA09E-5EAD-4362-AF77-4D106AE022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0EB66B-B030-4698-B581-D1B18A6692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E2388F7-7E7E-4A0A-990F-8C7BB62254A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32A6C3B-CA25-476C-8A0B-A2A7AC27D52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531015F-8574-41E4-9349-18F880EBAEF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A9A2F33-560F-4AAC-B4F1-763E842DFE3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EB61C9F-C923-4909-A299-F7595BDF6D5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F71E7DF-8BC1-4C00-9DB7-3F7B90ADC58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229926A-510A-459A-BAB9-D67F1387301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6EDB677-A552-4A67-8DF8-0E132E65958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84CDD-2CB9-4256-AF1C-10CEEDED7A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B2843F6-FCDA-493F-BBD6-249F3DAD2F1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2BCA1B-36B2-4D38-AC63-EFEC5BF7BF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059260-DFEF-4741-BED0-F327D2F462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314866-9E34-4783-8994-CD2BEF35B6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F9B5ACA-3AD7-46D7-9C26-7763D0C6BE8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629F511-9BC5-4160-B7B4-FD9FC740998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F9A773D-FAA8-4CF8-9698-07141C46EBFA}"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18966-EBA8-4468-BB21-DEC8ED266496}" type="datetime">
              <a:rPr b="0" lang="en-US" sz="1400" spc="-1" strike="noStrike">
                <a:solidFill>
                  <a:srgbClr val="464653"/>
                </a:solidFill>
                <a:latin typeface="Times New Roman"/>
              </a:rPr>
              <a:t>07/28/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F2752-D2DF-441A-BFC2-6E1300EC6019}"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Rechte verbindingslijn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6" name="Rechte verbindingslijn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7" name="Gelijkbenige driehoek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hthoek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5" name="Rechthoek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6" name="Rechthoek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7" name="Rechthoek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2C1C5-971D-458F-95BA-95B51D0F8FD6}" type="datetime">
              <a:rPr b="0" lang="en-US" sz="1400" spc="-1" strike="noStrike">
                <a:solidFill>
                  <a:srgbClr val="464653"/>
                </a:solidFill>
                <a:latin typeface="Times New Roman"/>
              </a:rPr>
              <a:t>07/28/26</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FE04D-643D-48E6-A096-874A2034031A}"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hthoek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0" name="Rechthoek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C70A9-A4C0-4A3D-ABBB-3F8C562C994A}" type="datetime">
              <a:rPr b="0" lang="en-US" sz="1400" spc="-1" strike="noStrike">
                <a:solidFill>
                  <a:srgbClr val="dde9ec"/>
                </a:solidFill>
                <a:latin typeface="Times New Roman"/>
              </a:rPr>
              <a:t>07/28/26</a:t>
            </a:fld>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4D04D-4A5F-4BDA-A569-D37AEF28C7FF}"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hte verbindingslijn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3" name="Rechte verbindingslijn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4" name="Gelijkbenige driehoek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35" name="Gelijkbenige driehoek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306A0-0980-44C9-A4A6-1BAFE609D258}" type="datetime">
              <a:rPr b="0" lang="en-US" sz="1400" spc="-1" strike="noStrike">
                <a:solidFill>
                  <a:srgbClr val="464653"/>
                </a:solidFill>
                <a:latin typeface="Times New Roman"/>
              </a:rPr>
              <a:t>07/28/26</a:t>
            </a:fld>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72041-0341-43D7-9D9B-1FB6724AF94B}"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hte verbindingslijn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78" name="Gelijkbenige driehoek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5CC42-9E61-4F29-8E2B-6781AE836352}" type="datetime">
              <a:rPr b="0" lang="en-US" sz="1400" spc="-1" strike="noStrike">
                <a:solidFill>
                  <a:srgbClr val="464653"/>
                </a:solidFill>
                <a:latin typeface="Times New Roman"/>
              </a:rPr>
              <a:t>07/28/26</a:t>
            </a:fld>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F799B-4824-4698-8587-E0BC683DD553}"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hte verbindingslijn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1" name="Rechte verbindingslijn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2" name="Gelijkbenige driehoek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1698E-445A-4B59-89D8-0FF1BEC27835}" type="datetime">
              <a:rPr b="0" lang="en-US" sz="1400" spc="-1" strike="noStrike">
                <a:solidFill>
                  <a:srgbClr val="464653"/>
                </a:solidFill>
                <a:latin typeface="Times New Roman"/>
              </a:rPr>
              <a:t>07/28/26</a:t>
            </a:fld>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776D3-A699-488D-B5BF-60450683F96F}"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Rechte verbindingslijn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65" name="Gelijkbenige driehoek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66" name="Rechthoek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8BE39-25D6-407B-AE5A-CDC8638E7E2C}" type="datetime">
              <a:rPr b="0" lang="en-US" sz="1400" spc="-1" strike="noStrike">
                <a:solidFill>
                  <a:srgbClr val="dde9ec"/>
                </a:solidFill>
                <a:latin typeface="Times New Roman"/>
              </a:rPr>
              <a:t>07/28/26</a:t>
            </a:fld>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FB25C-920B-4818-A583-3C7367F5EB7B}"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Rechte verbindingslijn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09" name="Gelijkbenige driehoek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10" name="Rechte verbindingslijn 14"/>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81982-2F81-4F20-9B30-9031A61E69D7}" type="datetime">
              <a:rPr b="0" lang="en-US" sz="1400" spc="-1" strike="noStrike">
                <a:solidFill>
                  <a:srgbClr val="464653"/>
                </a:solidFill>
                <a:latin typeface="Times New Roman"/>
              </a:rPr>
              <a:t>07/28/26</a:t>
            </a:fld>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6B136-D576-4CD7-9208-375B3B0CEE5D}"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184400" y="386064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Bookman Old Style"/>
              </a:rPr>
              <a:t>Summary</a:t>
            </a:r>
            <a:endParaRPr b="0" lang="en-US" sz="3200" spc="-1" strike="noStrike">
              <a:solidFill>
                <a:srgbClr val="464653"/>
              </a:solidFill>
              <a:latin typeface="Bookman Old Style"/>
            </a:endParaRPr>
          </a:p>
        </p:txBody>
      </p:sp>
      <p:sp>
        <p:nvSpPr>
          <p:cNvPr id="360" name="PlaceHolder 2"/>
          <p:cNvSpPr>
            <a:spLocks noGrp="1"/>
          </p:cNvSpPr>
          <p:nvPr>
            <p:ph type="subTitle"/>
          </p:nvPr>
        </p:nvSpPr>
        <p:spPr>
          <a:xfrm>
            <a:off x="1219320" y="5124240"/>
            <a:ext cx="6858000" cy="53316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Bookman Old Style"/>
            </a:endParaRPr>
          </a:p>
        </p:txBody>
      </p:sp>
      <p:pic>
        <p:nvPicPr>
          <p:cNvPr id="361" name="Picture 5" descr="D:\Ilri\various\NBDC_LogoBigSize_PV.jpg"/>
          <p:cNvPicPr/>
          <p:nvPr/>
        </p:nvPicPr>
        <p:blipFill>
          <a:blip r:embed="rId1"/>
          <a:stretch/>
        </p:blipFill>
        <p:spPr>
          <a:xfrm>
            <a:off x="838080" y="260280"/>
            <a:ext cx="7550280" cy="3008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68360" y="188640"/>
            <a:ext cx="8229600" cy="990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Partner presentations</a:t>
            </a:r>
            <a:endParaRPr b="0" lang="en-US" sz="3200" spc="-1" strike="noStrike">
              <a:solidFill>
                <a:srgbClr val="464653"/>
              </a:solidFill>
              <a:latin typeface="Bookman Old Style"/>
            </a:endParaRPr>
          </a:p>
        </p:txBody>
      </p:sp>
      <p:sp>
        <p:nvSpPr>
          <p:cNvPr id="363" name=""/>
          <p:cNvSpPr txBox="1"/>
          <p:nvPr/>
        </p:nvSpPr>
        <p:spPr>
          <a:xfrm>
            <a:off x="457200" y="1219320"/>
            <a:ext cx="8229600" cy="4937040"/>
          </a:xfrm>
          <a:prstGeom prst="rect">
            <a:avLst/>
          </a:prstGeom>
          <a:noFill/>
          <a:ln w="0">
            <a:noFill/>
          </a:ln>
        </p:spPr>
        <p:txBody>
          <a:bodyPr anchor="t">
            <a:normAutofit fontScale="93000"/>
          </a:bodyPr>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Many success stories can be found </a:t>
            </a:r>
            <a:endParaRPr b="0" lang="en-US" sz="2600" spc="-1" strike="noStrike">
              <a:solidFill>
                <a:srgbClr val="000000"/>
              </a:solidFill>
              <a:latin typeface="Gill Sans MT"/>
            </a:endParaRPr>
          </a:p>
          <a:p>
            <a:pPr lvl="1" marL="509040" indent="-2534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OARI and ARARI mention mainly in situ water conservation</a:t>
            </a:r>
            <a:endParaRPr b="0" lang="en-US" sz="2300" spc="-1" strike="noStrike">
              <a:solidFill>
                <a:srgbClr val="464653"/>
              </a:solidFill>
              <a:latin typeface="Gill Sans MT"/>
            </a:endParaRPr>
          </a:p>
          <a:p>
            <a:pPr lvl="1" marL="509040" indent="-2534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ERHA mainly water harvesting structures</a:t>
            </a:r>
            <a:endParaRPr b="0" lang="en-US" sz="2300" spc="-1" strike="noStrike">
              <a:solidFill>
                <a:srgbClr val="464653"/>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For each project run, there are surveys done, some of them have impact analysis</a:t>
            </a:r>
            <a:endParaRPr b="0" lang="en-US" sz="2600" spc="-1" strike="noStrike">
              <a:solidFill>
                <a:srgbClr val="000000"/>
              </a:solidFill>
              <a:latin typeface="Gill Sans MT"/>
            </a:endParaRPr>
          </a:p>
          <a:p>
            <a:pPr lvl="1" marL="509040" indent="-2534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Partners have a lot of information and data beyond the 3 pilote sites of N3</a:t>
            </a:r>
            <a:endParaRPr b="0" lang="en-US" sz="2300" spc="-1" strike="noStrike">
              <a:solidFill>
                <a:srgbClr val="464653"/>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Some of the water management practices are not mentionned (river diversion, wells, water lifting technolgogies) because it is beyond the mandate of the research centers (but belongs to the ministry of water)</a:t>
            </a:r>
            <a:endParaRPr b="0" lang="en-US" sz="2600" spc="-1" strike="noStrike">
              <a:solidFill>
                <a:srgbClr val="000000"/>
              </a:solidFill>
              <a:latin typeface="Gill Sans MT"/>
            </a:endParaRPr>
          </a:p>
        </p:txBody>
      </p:sp>
      <p:sp>
        <p:nvSpPr>
          <p:cNvPr id="364" name="Tijdelijke aanduiding voor dianumm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C4FBD-87F7-49CB-92BA-0C7B8EC8B142}" type="slidenum">
              <a:rPr b="0" lang="en-US" sz="1400" spc="-1" strike="noStrike">
                <a:solidFill>
                  <a:srgbClr val="464653"/>
                </a:solidFill>
                <a:latin typeface="Gill Sans MT"/>
              </a:rPr>
              <a:t>&lt;number&gt;</a:t>
            </a:fld>
            <a:endParaRPr b="0" lang="en-US" sz="1400" spc="-1" strike="noStrike">
              <a:solidFill>
                <a:srgbClr val="000000"/>
              </a:solidFill>
              <a:latin typeface="Gill Sans MT"/>
            </a:endParaRPr>
          </a:p>
        </p:txBody>
      </p:sp>
      <p:pic>
        <p:nvPicPr>
          <p:cNvPr id="365" name="Picture 5" descr=""/>
          <p:cNvPicPr/>
          <p:nvPr/>
        </p:nvPicPr>
        <p:blipFill>
          <a:blip r:embed="rId1"/>
          <a:stretch/>
        </p:blipFill>
        <p:spPr>
          <a:xfrm>
            <a:off x="7380360" y="6157800"/>
            <a:ext cx="1763640" cy="700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Definition of “rainwater management strategy” </a:t>
            </a:r>
            <a:endParaRPr b="0" lang="en-US" sz="3200" spc="-1" strike="noStrike">
              <a:solidFill>
                <a:srgbClr val="464653"/>
              </a:solidFill>
              <a:latin typeface="Bookman Old Style"/>
            </a:endParaRPr>
          </a:p>
        </p:txBody>
      </p:sp>
      <p:sp>
        <p:nvSpPr>
          <p:cNvPr id="367" name=""/>
          <p:cNvSpPr txBox="1"/>
          <p:nvPr/>
        </p:nvSpPr>
        <p:spPr>
          <a:xfrm>
            <a:off x="457200" y="1219320"/>
            <a:ext cx="8229600" cy="49370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Group 1  </a:t>
            </a:r>
            <a:endParaRPr b="0" lang="en-US" sz="26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Any interventions that increase the water productivity and water availibility within the watershed. </a:t>
            </a:r>
            <a:endParaRPr b="0" lang="en-US" sz="26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Group 2 :</a:t>
            </a:r>
            <a:endParaRPr b="0" lang="en-US" sz="26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Gill Sans MT"/>
              </a:rPr>
              <a:t>Efficient and effective management and utilization for a targeted purpose, agriculture, livestock, domestic supply and/or environment, with minimal damage (below economic threshold level) to the land nor to the resource.</a:t>
            </a:r>
            <a:endParaRPr b="0" lang="en-US" sz="26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8" name="Tijdelijke aanduiding voor voettekst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69" name="Tijdelijke aanduiding voor dianumm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02FA6-7ECA-4E37-A029-17C3D9EFF115}" type="slidenum">
              <a:rPr b="0" lang="en-US"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Classification of practices </a:t>
            </a:r>
            <a:endParaRPr b="0" lang="en-US" sz="3200" spc="-1" strike="noStrike">
              <a:solidFill>
                <a:srgbClr val="464653"/>
              </a:solidFill>
              <a:latin typeface="Bookman Old Style"/>
            </a:endParaRPr>
          </a:p>
        </p:txBody>
      </p:sp>
      <p:sp>
        <p:nvSpPr>
          <p:cNvPr id="371"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Group1:</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Based on who takes the decision : farm household, the farmer community, the government</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Group 2 :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400" spc="-1" strike="noStrike">
                <a:solidFill>
                  <a:srgbClr val="000000"/>
                </a:solidFill>
                <a:latin typeface="Gill Sans MT"/>
              </a:rPr>
              <a:t>Physical</a:t>
            </a:r>
            <a:r>
              <a:rPr b="1" i="1" lang="en-CA" sz="2400" spc="-1" strike="noStrike">
                <a:solidFill>
                  <a:srgbClr val="000000"/>
                </a:solidFill>
                <a:latin typeface="Gill Sans MT"/>
              </a:rPr>
              <a:t>: </a:t>
            </a:r>
            <a:endParaRPr b="0" lang="en-US" sz="24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400" spc="-1" strike="noStrike">
                <a:solidFill>
                  <a:srgbClr val="464653"/>
                </a:solidFill>
                <a:latin typeface="Gill Sans MT"/>
              </a:rPr>
              <a:t> </a:t>
            </a:r>
            <a:r>
              <a:rPr b="1" i="1" lang="en-CA" sz="1400" spc="-1" strike="noStrike">
                <a:solidFill>
                  <a:srgbClr val="464653"/>
                </a:solidFill>
                <a:latin typeface="Gill Sans MT"/>
              </a:rPr>
              <a:t>In situ: no water storage</a:t>
            </a:r>
            <a:endParaRPr b="0" lang="en-US" sz="1400" spc="-1" strike="noStrike">
              <a:solidFill>
                <a:srgbClr val="464653"/>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Gill Sans MT"/>
              </a:rPr>
              <a:t>crop rotation, mulching, crop residue, terrassing, contour farming, runoff irrigation, dry planting, trench, eyebrow basin, halfmoon, tie ridging, zie pit, percolation pit, drainage system(ditches, cut off drain, BBF, Ridge &amp; Farrow)</a:t>
            </a:r>
            <a:endParaRPr b="0" lang="en-US" sz="14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400" spc="-1" strike="noStrike">
                <a:solidFill>
                  <a:srgbClr val="464653"/>
                </a:solidFill>
                <a:latin typeface="Gill Sans MT"/>
              </a:rPr>
              <a:t> </a:t>
            </a:r>
            <a:r>
              <a:rPr b="1" i="1" lang="en-CA" sz="1400" spc="-1" strike="noStrike">
                <a:solidFill>
                  <a:srgbClr val="464653"/>
                </a:solidFill>
                <a:latin typeface="Gill Sans MT"/>
              </a:rPr>
              <a:t>Ex situ : water storage structure</a:t>
            </a:r>
            <a:endParaRPr b="0" lang="en-US" sz="1400" spc="-1" strike="noStrike">
              <a:solidFill>
                <a:srgbClr val="464653"/>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Gill Sans MT"/>
              </a:rPr>
              <a:t> </a:t>
            </a:r>
            <a:r>
              <a:rPr b="0" i="1" lang="en-CA" sz="1400" spc="-1" strike="noStrike">
                <a:solidFill>
                  <a:srgbClr val="000000"/>
                </a:solidFill>
                <a:latin typeface="Gill Sans MT"/>
              </a:rPr>
              <a:t>farm pond, diversion, roof water harvesting, microdams, wells </a:t>
            </a:r>
            <a:endParaRPr b="0" lang="en-US" sz="1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400" spc="-1" strike="noStrike">
                <a:solidFill>
                  <a:srgbClr val="000000"/>
                </a:solidFill>
                <a:latin typeface="Gill Sans MT"/>
              </a:rPr>
              <a:t>Biological: </a:t>
            </a:r>
            <a:endParaRPr b="0" lang="en-US" sz="14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464653"/>
                </a:solidFill>
                <a:latin typeface="Gill Sans MT"/>
              </a:rPr>
              <a:t>crop varieties and types, afforestation, multi-purpose tree planting</a:t>
            </a:r>
            <a:endParaRPr b="0" lang="en-US" sz="14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400" spc="-1" strike="noStrike">
                <a:solidFill>
                  <a:srgbClr val="000000"/>
                </a:solidFill>
                <a:latin typeface="Gill Sans MT"/>
              </a:rPr>
              <a:t>Technological: </a:t>
            </a:r>
            <a:endParaRPr b="0" lang="en-US" sz="14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464653"/>
                </a:solidFill>
                <a:latin typeface="Gill Sans MT"/>
              </a:rPr>
              <a:t>water lifting devices, spring protection, BBM</a:t>
            </a:r>
            <a:endParaRPr b="0" lang="en-US" sz="14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372" name="Tijdelijke aanduiding voor dianumm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EB626-2584-4B3D-AA00-214811F55BC4}" type="slidenum">
              <a:rPr b="0" lang="en-US" sz="1400" spc="-1" strike="noStrike">
                <a:solidFill>
                  <a:srgbClr val="464653"/>
                </a:solidFill>
                <a:latin typeface="Gill Sans MT"/>
              </a:rPr>
              <a:t>&lt;number&gt;</a:t>
            </a:fld>
            <a:endParaRPr b="0" lang="en-US" sz="1400" spc="-1" strike="noStrike">
              <a:solidFill>
                <a:srgbClr val="000000"/>
              </a:solidFill>
              <a:latin typeface="Gill Sans MT"/>
            </a:endParaRPr>
          </a:p>
        </p:txBody>
      </p:sp>
      <p:pic>
        <p:nvPicPr>
          <p:cNvPr id="373" name="Picture 5" descr=""/>
          <p:cNvPicPr/>
          <p:nvPr/>
        </p:nvPicPr>
        <p:blipFill>
          <a:blip r:embed="rId1"/>
          <a:stretch/>
        </p:blipFill>
        <p:spPr>
          <a:xfrm>
            <a:off x="7380360" y="6157800"/>
            <a:ext cx="1763640" cy="700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Today’s program</a:t>
            </a:r>
            <a:endParaRPr b="0" lang="en-US" sz="3200" spc="-1" strike="noStrike">
              <a:solidFill>
                <a:srgbClr val="464653"/>
              </a:solidFill>
              <a:latin typeface="Bookman Old Style"/>
            </a:endParaRPr>
          </a:p>
        </p:txBody>
      </p:sp>
      <p:sp>
        <p:nvSpPr>
          <p:cNvPr id="375" name="Tijdelijke aanduiding voor dianumm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91D5B-3A57-4E84-ADCE-93C2D8D17967}" type="slidenum">
              <a:rPr b="0" lang="en-US" sz="1400" spc="-1" strike="noStrike">
                <a:solidFill>
                  <a:srgbClr val="464653"/>
                </a:solidFill>
                <a:latin typeface="Gill Sans MT"/>
              </a:rPr>
              <a:t>&lt;number&gt;</a:t>
            </a:fld>
            <a:endParaRPr b="0" lang="en-US" sz="1400" spc="-1" strike="noStrike">
              <a:solidFill>
                <a:srgbClr val="000000"/>
              </a:solidFill>
              <a:latin typeface="Gill Sans MT"/>
            </a:endParaRPr>
          </a:p>
        </p:txBody>
      </p:sp>
      <p:pic>
        <p:nvPicPr>
          <p:cNvPr id="376" name="Picture 5" descr=""/>
          <p:cNvPicPr/>
          <p:nvPr/>
        </p:nvPicPr>
        <p:blipFill>
          <a:blip r:embed="rId1"/>
          <a:stretch/>
        </p:blipFill>
        <p:spPr>
          <a:xfrm>
            <a:off x="7380360" y="6157800"/>
            <a:ext cx="1763640" cy="700200"/>
          </a:xfrm>
          <a:prstGeom prst="rect">
            <a:avLst/>
          </a:prstGeom>
          <a:ln w="0">
            <a:noFill/>
          </a:ln>
        </p:spPr>
      </p:pic>
      <p:pic>
        <p:nvPicPr>
          <p:cNvPr id="377" name="Picture 6" descr=""/>
          <p:cNvPicPr/>
          <p:nvPr/>
        </p:nvPicPr>
        <p:blipFill>
          <a:blip r:embed="rId2"/>
          <a:stretch/>
        </p:blipFill>
        <p:spPr>
          <a:xfrm>
            <a:off x="250920" y="1557360"/>
            <a:ext cx="8229600" cy="2394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68360" y="188640"/>
            <a:ext cx="8229600" cy="990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Open “discussion board”</a:t>
            </a:r>
            <a:endParaRPr b="0" lang="en-US" sz="3200" spc="-1" strike="noStrike">
              <a:solidFill>
                <a:srgbClr val="464653"/>
              </a:solidFill>
              <a:latin typeface="Bookman Old Style"/>
            </a:endParaRPr>
          </a:p>
        </p:txBody>
      </p:sp>
      <p:sp>
        <p:nvSpPr>
          <p:cNvPr id="379"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How should the research center be organised to contribute to the different NBDC projects?</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How should the GIS training look lik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How are we going to access and share data from the different partners?</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How is the N3 project going to be implemented? </a:t>
            </a:r>
            <a:endParaRPr b="0" lang="en-US" sz="2600" spc="-1" strike="noStrike">
              <a:solidFill>
                <a:srgbClr val="000000"/>
              </a:solidFill>
              <a:latin typeface="Gill Sans MT"/>
            </a:endParaRPr>
          </a:p>
        </p:txBody>
      </p:sp>
      <p:sp>
        <p:nvSpPr>
          <p:cNvPr id="380" name="Tijdelijke aanduiding voor dianumm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8E214-926B-452E-A098-2158EA96977A}" type="slidenum">
              <a:rPr b="0" lang="en-US" sz="1400" spc="-1" strike="noStrike">
                <a:solidFill>
                  <a:srgbClr val="464653"/>
                </a:solidFill>
                <a:latin typeface="Gill Sans MT"/>
              </a:rPr>
              <a:t>&lt;number&gt;</a:t>
            </a:fld>
            <a:endParaRPr b="0" lang="en-US" sz="1400" spc="-1" strike="noStrike">
              <a:solidFill>
                <a:srgbClr val="000000"/>
              </a:solidFill>
              <a:latin typeface="Gill Sans MT"/>
            </a:endParaRPr>
          </a:p>
        </p:txBody>
      </p:sp>
      <p:pic>
        <p:nvPicPr>
          <p:cNvPr id="381" name="Picture 5" descr=""/>
          <p:cNvPicPr/>
          <p:nvPr/>
        </p:nvPicPr>
        <p:blipFill>
          <a:blip r:embed="rId1"/>
          <a:stretch/>
        </p:blipFill>
        <p:spPr>
          <a:xfrm>
            <a:off x="7380360" y="6157800"/>
            <a:ext cx="1763640" cy="700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Bringing classification together (to be filled in) </a:t>
            </a:r>
            <a:endParaRPr b="0" lang="en-US" sz="3200" spc="-1" strike="noStrike">
              <a:solidFill>
                <a:srgbClr val="464653"/>
              </a:solidFill>
              <a:latin typeface="Bookman Old Style"/>
            </a:endParaRPr>
          </a:p>
        </p:txBody>
      </p:sp>
      <p:graphicFrame>
        <p:nvGraphicFramePr>
          <p:cNvPr id="383" name=""/>
          <p:cNvGraphicFramePr/>
          <p:nvPr/>
        </p:nvGraphicFramePr>
        <p:xfrm>
          <a:off x="457200" y="1219320"/>
          <a:ext cx="8229600" cy="2392200"/>
        </p:xfrm>
        <a:graphic>
          <a:graphicData uri="http://schemas.openxmlformats.org/drawingml/2006/table">
            <a:tbl>
              <a:tblPr/>
              <a:tblGrid>
                <a:gridCol w="2057400"/>
                <a:gridCol w="2057400"/>
                <a:gridCol w="2057400"/>
                <a:gridCol w="2057400"/>
              </a:tblGrid>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Gill Sans MT"/>
                        </a:rPr>
                        <a:t>Farm household</a:t>
                      </a: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Gill Sans MT"/>
                        </a:rPr>
                        <a:t>Farm community</a:t>
                      </a: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Gill Sans MT"/>
                        </a:rPr>
                        <a:t>Government </a:t>
                      </a: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Gill Sans MT"/>
                        </a:rPr>
                        <a:t>Physical (in situ)</a:t>
                      </a: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7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Gill Sans MT"/>
                        </a:rPr>
                        <a:t>Crop rotation,</a:t>
                      </a: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7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Gill Sans MT"/>
                        </a:rPr>
                        <a:t>Terasse</a:t>
                      </a: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7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7e0"/>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Gill Sans MT"/>
                        </a:rPr>
                        <a:t>Physical (ex situ)</a:t>
                      </a: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Gill Sans MT"/>
                        </a:rPr>
                        <a:t>Ponds, check dam</a:t>
                      </a: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Gill Sans MT"/>
                        </a:rPr>
                        <a:t>Ponds, check dam</a:t>
                      </a: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Gill Sans MT"/>
                        </a:rPr>
                        <a:t>Biological </a:t>
                      </a: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Gill Sans MT"/>
                        </a:rPr>
                        <a:t>Improved variety, afforestation</a:t>
                      </a: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Gill Sans MT"/>
                        </a:rPr>
                        <a:t>technological</a:t>
                      </a: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Gill Sans MT"/>
                        </a:rPr>
                        <a:t>Water lifting device, </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Gill Sans MT"/>
                        </a:rPr>
                        <a:t>Spring protection</a:t>
                      </a: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r>
            </a:tbl>
          </a:graphicData>
        </a:graphic>
      </p:graphicFrame>
      <p:sp>
        <p:nvSpPr>
          <p:cNvPr id="384" name="Tijdelijke aanduiding voor dianumm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0150A-049C-4D8D-AA6A-E3D4778DF8F4}" type="slidenum">
              <a:rPr b="0" lang="en-US" sz="1400" spc="-1" strike="noStrike">
                <a:solidFill>
                  <a:srgbClr val="464653"/>
                </a:solidFill>
                <a:latin typeface="Gill Sans MT"/>
              </a:rPr>
              <a:t>&lt;number&gt;</a:t>
            </a:fld>
            <a:endParaRPr b="0" lang="en-US" sz="1400" spc="-1" strike="noStrike">
              <a:solidFill>
                <a:srgbClr val="000000"/>
              </a:solidFill>
              <a:latin typeface="Gill Sans MT"/>
            </a:endParaRPr>
          </a:p>
        </p:txBody>
      </p:sp>
      <p:pic>
        <p:nvPicPr>
          <p:cNvPr id="385" name="Picture 5" descr=""/>
          <p:cNvPicPr/>
          <p:nvPr/>
        </p:nvPicPr>
        <p:blipFill>
          <a:blip r:embed="rId1"/>
          <a:stretch/>
        </p:blipFill>
        <p:spPr>
          <a:xfrm>
            <a:off x="7380360" y="6157800"/>
            <a:ext cx="1763640" cy="700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Prioritizing </a:t>
            </a:r>
            <a:endParaRPr b="0" lang="en-US" sz="3200" spc="-1" strike="noStrike">
              <a:solidFill>
                <a:srgbClr val="464653"/>
              </a:solidFill>
              <a:latin typeface="Bookman Old Style"/>
            </a:endParaRPr>
          </a:p>
        </p:txBody>
      </p:sp>
      <p:sp>
        <p:nvSpPr>
          <p:cNvPr id="387" name=""/>
          <p:cNvSpPr txBox="1"/>
          <p:nvPr/>
        </p:nvSpPr>
        <p:spPr>
          <a:xfrm>
            <a:off x="324000" y="119700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What are the top 5 most implemented practices in the areas you work? What 5 potentially have the highest impact on farmer’s livelihoods?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What are the successes and contraints to adoption of thes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 </a:t>
            </a:r>
            <a:r>
              <a:rPr b="0" lang="nl-NL" sz="2600" spc="-1" strike="noStrike">
                <a:solidFill>
                  <a:srgbClr val="000000"/>
                </a:solidFill>
                <a:latin typeface="Gill Sans MT"/>
              </a:rPr>
              <a:t>Where do these practices work best? What are the bio-physical characteristic that matter?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Who are the actors who need to be involved for adoption an practic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What are the socio-economic and institutional conditions needed?</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8" name="Tijdelijke aanduiding voor voettekst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89" name="Tijdelijke aanduiding voor dianumm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179C0-0699-4C69-B367-0F6B7E974288}" type="slidenum">
              <a:rPr b="0" lang="en-US"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8T07:35:18Z</dcterms:created>
  <dc:creator>Catherine -user</dc:creator>
  <dc:description/>
  <dc:language>en-US</dc:language>
  <cp:lastModifiedBy>Catherine -user</cp:lastModifiedBy>
  <dcterms:modified xsi:type="dcterms:W3CDTF">2011-03-28T20:17:16Z</dcterms:modified>
  <cp:revision>40</cp:revision>
  <dc:subject/>
  <dc:title>PowerPoint-presentatie</dc:title>
</cp:coreProperties>
</file>